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244C-6728-4508-ADF0-AB78C8EE9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ADD3-9629-4654-8ED9-C4C83C151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7B22-4D47-41C1-992F-517B04A30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blogs.msdn.com/b/ptorr/archive/2005/02/22/guerillathreatmodelling.asp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k “Threat Modeling” by Frank Swiderski and Window Sny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E8FE-29FC-4730-BF14-7F2F61EB4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tack Modeling for Information Security and Surviv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P. Moore, Robert J. Ellison, Richard C. Li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ert.org/archive/pdf/01tn001.pdf</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B120-0A44-4553-8089-9D43DDB97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C2D2-320B-4BCE-ADB6-2098A393B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9B5A3-0535-4253-9011-F511C3028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F1955-4CCA-4394-BB51-11489F1D3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D412F-7671-4248-B885-FCAC2E7D1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B5AF2-F29A-4066-AE43-F4CC5CB6D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F65E-F407-46C9-A28C-44774D87B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8A4C2-56A8-4212-B030-7056C7940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8E5B7-0BFF-4CD8-84F2-97F51D76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53056-28E0-48F8-A167-2D3B27BA8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CCB35-AD05-4808-BD50-64B9F2F3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028B-C5C4-4EE9-B72C-558CCEF14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B3AD-D2B9-4E48-8B16-9981A21C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90C1-A00C-42BB-909A-A65B6FF77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64C5-9025-40DC-A14E-5A76123A36E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5ECF-570F-45F3-9E43-E160C8692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4: Desig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3-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ing privileg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ive to provide “least privile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components should only have minimum necessary privile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damage if attacker breaks i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make a program setuid; make it a normal program &amp; require admin logi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breaking into pieces with small trusted piec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ix-like system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mary privilege determiner is EUID/EG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aved” SUID/SGID lets you temporarily disable/re-en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hroot” lets you limit filesystem visibility</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inciple has many aspects</a:t>
            </a:r>
            <a:endParaRPr b="0" lang="en-US" sz="27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8EF1-71C3-40CB-B114-2F66CD2CE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privileges granted</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n’t grant root</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creating setuid root programs</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Create special group</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t file access to that group</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gid group, or run daemon process as group</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Create special user</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ers typically do this (“nobody”)</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to create group than user – easier to admin group</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Limit database rights for application</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seudo-user(s)/groups with limited rights</a:t>
            </a:r>
            <a:endParaRPr b="0" lang="en-US" sz="2400" spc="-1" strike="noStrike">
              <a:solidFill>
                <a:srgbClr val="000000"/>
              </a:solidFill>
              <a:latin typeface="Calibri"/>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application may only need select or insert</a:t>
            </a:r>
            <a:endParaRPr b="0" lang="en-US" sz="20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QL GRANT …</a:t>
            </a:r>
            <a:endParaRPr b="0" lang="en-US" sz="24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7242-22E8-4AC9-B29F-13B0F6D408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time privilege</a:t>
            </a:r>
            <a:br>
              <a:rPr sz="4400"/>
            </a:br>
            <a:r>
              <a:rPr b="0" lang="en-US" sz="4400" spc="-1" strike="noStrike">
                <a:solidFill>
                  <a:srgbClr val="000000"/>
                </a:solidFill>
                <a:latin typeface="Calibri"/>
              </a:rPr>
              <a:t>can be used</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manently give up privilege ASA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set EUID/EGID and SUID/SGID to RUID/RG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ervers do thi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root privileges to attach to port 80</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need them afterwards, so permanently drop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can’t do this</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1497-00BF-4282-A732-FBF48663AA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time privilege</a:t>
            </a:r>
            <a:br>
              <a:rPr sz="4400"/>
            </a:br>
            <a:r>
              <a:rPr b="0" lang="en-US" sz="4400" spc="-1" strike="noStrike">
                <a:solidFill>
                  <a:srgbClr val="000000"/>
                </a:solidFill>
                <a:latin typeface="Calibri"/>
              </a:rPr>
              <a:t>is activ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orarily give up privile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do with setuid(2), seteuid(2), setgroups(2)</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seful than giving up permanent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ttacks can force program to re-asse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some attacks can’t, so still helps</a:t>
            </a: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DE33-5981-4CF3-91B9-8FFF47E1E8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modules granted privilege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reak into par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some parts (preferably small) have privile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PI limits actions the rest can reque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Returns authenticated yes/no” &amp; hides password info</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reak up roles, e.g., “admin” vs “user” compon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program for </a:t>
            </a:r>
            <a:r>
              <a:rPr b="0" i="1" lang="en-US" sz="2400" spc="-1" strike="noStrike">
                <a:solidFill>
                  <a:srgbClr val="000000"/>
                </a:solidFill>
                <a:latin typeface="Calibri"/>
              </a:rPr>
              <a:t>user</a:t>
            </a:r>
            <a:r>
              <a:rPr b="0" lang="en-US" sz="2400" spc="-1" strike="noStrike">
                <a:solidFill>
                  <a:srgbClr val="000000"/>
                </a:solidFill>
                <a:latin typeface="Calibri"/>
              </a:rPr>
              <a:t> interface far fewer privile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app: Separate admin interface, different privileg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raditional GUI: Don’t give privilege to GU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 toolkits are bi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GUI talks to separate program with privileg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eate special program that does one small thing</a:t>
            </a:r>
            <a:endParaRPr b="0" lang="en-US" sz="27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A8CE-25F4-4704-BB38-949BEB70C7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ing privileges:</a:t>
            </a:r>
            <a:br>
              <a:rPr sz="4400"/>
            </a:br>
            <a:r>
              <a:rPr b="0" lang="en-US" sz="4400" spc="-1" strike="noStrike">
                <a:solidFill>
                  <a:srgbClr val="000000"/>
                </a:solidFill>
                <a:latin typeface="Calibri"/>
              </a:rPr>
              <a:t>Limit accessible resource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all web program (e.g., CGI) data outside document tre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users cannot request data by UR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esources avail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 CPU resources, data space, et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goes haywire” can detect &amp; stop soon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hroot to limit visible files (next)</a:t>
            </a:r>
            <a:endParaRPr b="0" lang="en-US" sz="3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38F9-E7E5-4470-A3F6-E4B3BDED44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o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x-like systems (unlike Windows) have a “top” directory “/” (root direct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hroot” call can change what “/” refers to in a process (privileged cal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ed a “chroot j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s large portions of filesystem inaccessib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set up, call chroot, </a:t>
            </a:r>
            <a:r>
              <a:rPr b="0" i="1" lang="en-US" sz="3200" spc="-1" strike="noStrike">
                <a:solidFill>
                  <a:srgbClr val="000000"/>
                </a:solidFill>
                <a:latin typeface="Calibri"/>
              </a:rPr>
              <a:t>cd into chroot jail</a:t>
            </a:r>
            <a:r>
              <a:rPr b="0" lang="en-US" sz="3200" spc="-1" strike="noStrike">
                <a:solidFill>
                  <a:srgbClr val="000000"/>
                </a:solidFill>
                <a:latin typeface="Calibri"/>
              </a:rPr>
              <a:t>, close all files, and drop all privile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ot cannot protect against root privileges</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7328-8C24-4103-90BC-7D78E13B0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igure safely/ use safe default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initial installation secu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have a “default” password – force sett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rt with most restrictive policy until reconfig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ample” configurations must be sec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a:t>
            </a:r>
            <a:r>
              <a:rPr b="0" i="1" lang="en-US" sz="2200" spc="-1" strike="noStrike">
                <a:solidFill>
                  <a:srgbClr val="000000"/>
                </a:solidFill>
                <a:latin typeface="Calibri"/>
              </a:rPr>
              <a:t>will</a:t>
            </a:r>
            <a:r>
              <a:rPr b="0" lang="en-US" sz="2200" spc="-1" strike="noStrike">
                <a:solidFill>
                  <a:srgbClr val="000000"/>
                </a:solidFill>
                <a:latin typeface="Calibri"/>
              </a:rPr>
              <a:t> use them as starting poin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files not writeable (or readable?)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installable by non-root (if practic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install, check assumptions are tru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it easy to reconfigure while keeping secu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onfiguration easy in gener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ny access until specifically granted</a:t>
            </a: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0706-73C0-4EB1-9EB6-ED5BC00EF1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 initialization values safely</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load initialization values, make sure they can’t be subvert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ttacker can't change which initialization file is used, nor create or modify that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 traditional user application, don’t use current directory – use user’s home director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program is setuid/setgi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read any file controlled by the user unless you carefully filter it as an untrusted (potentially hostile)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sted configuration values should be loaded from somewhere else entirely (typically from a file in /etc)</a:t>
            </a:r>
            <a:endParaRPr b="0" lang="en-US" sz="26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602D-AD8D-4205-BA85-96F10423C7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file privileg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nimize who can rea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ordinary users be able to read config fi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bably not, especially if sensitive info like passwords might be the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roid: “other user” should not normally have r/w access (different applic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Especially</a:t>
            </a:r>
            <a:r>
              <a:rPr b="0" lang="en-US" sz="3000" spc="-1" strike="noStrike">
                <a:solidFill>
                  <a:srgbClr val="000000"/>
                </a:solidFill>
                <a:latin typeface="Calibri"/>
              </a:rPr>
              <a:t> minimize who can wri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checking before us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stop processing configuration file if arbitrary user can write the file or directory it’s in</a:t>
            </a:r>
            <a:endParaRPr b="0" lang="en-US" sz="26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D1D4-1C3F-4360-A8D8-79A532FB4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zer and Schroeder design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ety of design princip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privile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 TOCTOU issu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 (Threat) modeling</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5C28-BFCA-4D05-B1F3-D4578C39E3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l saf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a:t>
            </a:r>
            <a:r>
              <a:rPr b="0" i="1" lang="en-US" sz="3200" spc="-1" strike="noStrike">
                <a:solidFill>
                  <a:srgbClr val="000000"/>
                </a:solidFill>
                <a:latin typeface="Calibri"/>
              </a:rPr>
              <a:t>will</a:t>
            </a:r>
            <a:r>
              <a:rPr b="0" lang="en-US" sz="3200" spc="-1" strike="noStrike">
                <a:solidFill>
                  <a:srgbClr val="000000"/>
                </a:solidFill>
                <a:latin typeface="Calibri"/>
              </a:rPr>
              <a:t> happ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so if (when) program fails, safest possible result oc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possibil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 open: Try to fail in a way that allows system to function (choose if </a:t>
            </a:r>
            <a:r>
              <a:rPr b="0" i="1" lang="en-US" sz="2800" spc="-1" strike="noStrike">
                <a:solidFill>
                  <a:srgbClr val="000000"/>
                </a:solidFill>
                <a:latin typeface="Calibri"/>
              </a:rPr>
              <a:t>availability</a:t>
            </a:r>
            <a:r>
              <a:rPr b="0" lang="en-US" sz="2800" spc="-1" strike="noStrike">
                <a:solidFill>
                  <a:srgbClr val="000000"/>
                </a:solidFill>
                <a:latin typeface="Calibri"/>
              </a:rPr>
              <a:t> most import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 closed: Restrict access on failure, even if it means loss of service (choose if </a:t>
            </a:r>
            <a:r>
              <a:rPr b="0" i="1" lang="en-US" sz="2800" spc="-1" strike="noStrike">
                <a:solidFill>
                  <a:srgbClr val="000000"/>
                </a:solidFill>
                <a:latin typeface="Calibri"/>
              </a:rPr>
              <a:t>confidentiality</a:t>
            </a:r>
            <a:r>
              <a:rPr b="0" lang="en-US" sz="2800" spc="-1" strike="noStrike">
                <a:solidFill>
                  <a:srgbClr val="000000"/>
                </a:solidFill>
                <a:latin typeface="Calibri"/>
              </a:rPr>
              <a:t> or </a:t>
            </a:r>
            <a:r>
              <a:rPr b="0" i="1" lang="en-US" sz="2800" spc="-1" strike="noStrike">
                <a:solidFill>
                  <a:srgbClr val="000000"/>
                </a:solidFill>
                <a:latin typeface="Calibri"/>
              </a:rPr>
              <a:t>integrity</a:t>
            </a:r>
            <a:r>
              <a:rPr b="0" lang="en-US" sz="2800" spc="-1" strike="noStrike">
                <a:solidFill>
                  <a:srgbClr val="000000"/>
                </a:solidFill>
                <a:latin typeface="Calibri"/>
              </a:rPr>
              <a:t> are more important)</a:t>
            </a:r>
            <a:endParaRPr b="0" lang="en-US" sz="28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939F-FD60-4207-9082-AD3A3184C2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input</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a:t>
            </a:r>
            <a:r>
              <a:rPr b="0" i="1" lang="en-US" sz="3200" spc="-1" strike="noStrike">
                <a:solidFill>
                  <a:srgbClr val="000000"/>
                </a:solidFill>
                <a:latin typeface="Calibri"/>
              </a:rPr>
              <a:t>crash </a:t>
            </a:r>
            <a:r>
              <a:rPr b="0" lang="en-US" sz="3200" spc="-1" strike="noStrike">
                <a:solidFill>
                  <a:srgbClr val="000000"/>
                </a:solidFill>
                <a:latin typeface="Calibri"/>
              </a:rPr>
              <a:t>when bad input oc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sets up easy Do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formed input should stop processing that request &amp; prep for next reque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try to “figure out what the user wanted” – if it’s security-related, just deny servi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reply with too much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access denied” &amp; log the res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9A79-1EC9-4FAB-8EBB-86049308BF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 race condition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ce condition'' = “Anomalous behavior due to unexpected critical dependence on the relative timing of events'' [FOLDO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volve one or more proce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ing a shared resource (e.g., file or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multiple access isn’t properly controlle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blems becaus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cing (non-atomic) problem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erence often from untrusted process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ically solve by creating lock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adlock/livelock/locking fail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erence from trusted process, often same program</a:t>
            </a:r>
            <a:endParaRPr b="0" lang="en-US" sz="2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370A-6437-490F-9669-EF94DB3EC6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ing/Non-atomic problem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n systems have many process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one processor, typically simulate man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ading/saving shared resource must be controll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variable (mem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t controlled, may lead to vulnerability</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ACE9-2623-459F-BB38-CBBE675F38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atomic “Add 1”</a:t>
            </a:r>
            <a:endParaRPr b="0" lang="en-US" sz="44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D54F-CC4B-4670-90A9-6F9033201D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TextBox 4"/>
          <p:cNvSpPr/>
          <p:nvPr/>
        </p:nvSpPr>
        <p:spPr>
          <a:xfrm>
            <a:off x="1255680" y="14590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Arial"/>
            </a:endParaRPr>
          </a:p>
        </p:txBody>
      </p:sp>
      <p:sp>
        <p:nvSpPr>
          <p:cNvPr id="119" name="TextBox 5"/>
          <p:cNvSpPr/>
          <p:nvPr/>
        </p:nvSpPr>
        <p:spPr>
          <a:xfrm>
            <a:off x="3136320" y="145908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variable x</a:t>
            </a:r>
            <a:endParaRPr b="0" lang="en-US" sz="1800" spc="-1" strike="noStrike">
              <a:solidFill>
                <a:srgbClr val="000000"/>
              </a:solidFill>
              <a:latin typeface="Arial"/>
            </a:endParaRPr>
          </a:p>
        </p:txBody>
      </p:sp>
      <p:sp>
        <p:nvSpPr>
          <p:cNvPr id="120" name="TextBox 6"/>
          <p:cNvSpPr/>
          <p:nvPr/>
        </p:nvSpPr>
        <p:spPr>
          <a:xfrm>
            <a:off x="5722920" y="1465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Arial"/>
            </a:endParaRPr>
          </a:p>
        </p:txBody>
      </p:sp>
      <p:sp>
        <p:nvSpPr>
          <p:cNvPr id="121" name="TextBox 7"/>
          <p:cNvSpPr/>
          <p:nvPr/>
        </p:nvSpPr>
        <p:spPr>
          <a:xfrm>
            <a:off x="1330920" y="228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x</a:t>
            </a:r>
            <a:endParaRPr b="0" lang="en-US" sz="1800" spc="-1" strike="noStrike">
              <a:solidFill>
                <a:srgbClr val="000000"/>
              </a:solidFill>
              <a:latin typeface="Arial"/>
            </a:endParaRPr>
          </a:p>
        </p:txBody>
      </p:sp>
      <p:sp>
        <p:nvSpPr>
          <p:cNvPr id="122" name="TextBox 8"/>
          <p:cNvSpPr/>
          <p:nvPr/>
        </p:nvSpPr>
        <p:spPr>
          <a:xfrm>
            <a:off x="5826240" y="228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x</a:t>
            </a:r>
            <a:endParaRPr b="0" lang="en-US" sz="1800" spc="-1" strike="noStrike">
              <a:solidFill>
                <a:srgbClr val="000000"/>
              </a:solidFill>
              <a:latin typeface="Arial"/>
            </a:endParaRPr>
          </a:p>
        </p:txBody>
      </p:sp>
      <p:sp>
        <p:nvSpPr>
          <p:cNvPr id="123" name="TextBox 10"/>
          <p:cNvSpPr/>
          <p:nvPr/>
        </p:nvSpPr>
        <p:spPr>
          <a:xfrm>
            <a:off x="3878640" y="22860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4" name="TextBox 11"/>
          <p:cNvSpPr/>
          <p:nvPr/>
        </p:nvSpPr>
        <p:spPr>
          <a:xfrm>
            <a:off x="1334160" y="3048120"/>
            <a:ext cx="252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Accumulator</a:t>
            </a:r>
            <a:endParaRPr b="0" lang="en-US" sz="1800" spc="-1" strike="noStrike">
              <a:solidFill>
                <a:srgbClr val="000000"/>
              </a:solidFill>
              <a:latin typeface="Arial"/>
            </a:endParaRPr>
          </a:p>
        </p:txBody>
      </p:sp>
      <p:sp>
        <p:nvSpPr>
          <p:cNvPr id="125" name="TextBox 12"/>
          <p:cNvSpPr/>
          <p:nvPr/>
        </p:nvSpPr>
        <p:spPr>
          <a:xfrm>
            <a:off x="5799600" y="3249720"/>
            <a:ext cx="252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Accumulator</a:t>
            </a:r>
            <a:endParaRPr b="0" lang="en-US" sz="1800" spc="-1" strike="noStrike">
              <a:solidFill>
                <a:srgbClr val="000000"/>
              </a:solidFill>
              <a:latin typeface="Arial"/>
            </a:endParaRPr>
          </a:p>
        </p:txBody>
      </p:sp>
      <p:sp>
        <p:nvSpPr>
          <p:cNvPr id="126" name="TextBox 13"/>
          <p:cNvSpPr/>
          <p:nvPr/>
        </p:nvSpPr>
        <p:spPr>
          <a:xfrm>
            <a:off x="1384200" y="380988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x</a:t>
            </a:r>
            <a:endParaRPr b="0" lang="en-US" sz="1800" spc="-1" strike="noStrike">
              <a:solidFill>
                <a:srgbClr val="000000"/>
              </a:solidFill>
              <a:latin typeface="Arial"/>
            </a:endParaRPr>
          </a:p>
        </p:txBody>
      </p:sp>
      <p:sp>
        <p:nvSpPr>
          <p:cNvPr id="127" name="TextBox 14"/>
          <p:cNvSpPr/>
          <p:nvPr/>
        </p:nvSpPr>
        <p:spPr>
          <a:xfrm>
            <a:off x="5871240" y="433224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x</a:t>
            </a:r>
            <a:endParaRPr b="0" lang="en-US" sz="1800" spc="-1" strike="noStrike">
              <a:solidFill>
                <a:srgbClr val="000000"/>
              </a:solidFill>
              <a:latin typeface="Arial"/>
            </a:endParaRPr>
          </a:p>
        </p:txBody>
      </p:sp>
      <p:sp>
        <p:nvSpPr>
          <p:cNvPr id="128" name="TextBox 15"/>
          <p:cNvSpPr/>
          <p:nvPr/>
        </p:nvSpPr>
        <p:spPr>
          <a:xfrm>
            <a:off x="888480" y="26082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9" name="TextBox 16"/>
          <p:cNvSpPr/>
          <p:nvPr/>
        </p:nvSpPr>
        <p:spPr>
          <a:xfrm>
            <a:off x="7698960" y="26226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0" name="TextBox 17"/>
          <p:cNvSpPr/>
          <p:nvPr/>
        </p:nvSpPr>
        <p:spPr>
          <a:xfrm>
            <a:off x="875880" y="341784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1" name="TextBox 18"/>
          <p:cNvSpPr/>
          <p:nvPr/>
        </p:nvSpPr>
        <p:spPr>
          <a:xfrm>
            <a:off x="7698960" y="36702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2" name="TextBox 19"/>
          <p:cNvSpPr/>
          <p:nvPr/>
        </p:nvSpPr>
        <p:spPr>
          <a:xfrm>
            <a:off x="3878640" y="380988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3" name="TextBox 20"/>
          <p:cNvSpPr/>
          <p:nvPr/>
        </p:nvSpPr>
        <p:spPr>
          <a:xfrm>
            <a:off x="3878640" y="48769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cxnSp>
        <p:nvCxnSpPr>
          <p:cNvPr id="134" name="Straight Arrow Connector 22"/>
          <p:cNvCxnSpPr/>
          <p:nvPr/>
        </p:nvCxnSpPr>
        <p:spPr>
          <a:xfrm flipH="1">
            <a:off x="1379160" y="2469960"/>
            <a:ext cx="2355120" cy="338760"/>
          </a:xfrm>
          <a:prstGeom prst="straightConnector1">
            <a:avLst/>
          </a:prstGeom>
          <a:ln w="12600">
            <a:solidFill>
              <a:srgbClr val="000000"/>
            </a:solidFill>
            <a:miter/>
            <a:tailEnd len="med" type="arrow" w="med"/>
          </a:ln>
        </p:spPr>
      </p:cxnSp>
      <p:cxnSp>
        <p:nvCxnSpPr>
          <p:cNvPr id="135" name="Straight Arrow Connector 24"/>
          <p:cNvCxnSpPr/>
          <p:nvPr/>
        </p:nvCxnSpPr>
        <p:spPr>
          <a:xfrm>
            <a:off x="1676160" y="3754440"/>
            <a:ext cx="2057760" cy="240480"/>
          </a:xfrm>
          <a:prstGeom prst="straightConnector1">
            <a:avLst/>
          </a:prstGeom>
          <a:ln w="12600">
            <a:solidFill>
              <a:srgbClr val="000000"/>
            </a:solidFill>
            <a:miter/>
            <a:tailEnd len="med" type="arrow" w="med"/>
          </a:ln>
        </p:spPr>
      </p:cxnSp>
      <p:cxnSp>
        <p:nvCxnSpPr>
          <p:cNvPr id="136" name="Straight Arrow Connector 26"/>
          <p:cNvCxnSpPr/>
          <p:nvPr/>
        </p:nvCxnSpPr>
        <p:spPr>
          <a:xfrm>
            <a:off x="4267080" y="2469960"/>
            <a:ext cx="3353760" cy="338760"/>
          </a:xfrm>
          <a:prstGeom prst="straightConnector1">
            <a:avLst/>
          </a:prstGeom>
          <a:ln w="12600">
            <a:solidFill>
              <a:srgbClr val="000000"/>
            </a:solidFill>
            <a:miter/>
            <a:tailEnd len="med" type="arrow" w="med"/>
          </a:ln>
        </p:spPr>
      </p:cxnSp>
      <p:cxnSp>
        <p:nvCxnSpPr>
          <p:cNvPr id="137" name="Straight Arrow Connector 28"/>
          <p:cNvCxnSpPr/>
          <p:nvPr/>
        </p:nvCxnSpPr>
        <p:spPr>
          <a:xfrm flipH="1">
            <a:off x="4494960" y="3785760"/>
            <a:ext cx="3125160" cy="1167480"/>
          </a:xfrm>
          <a:prstGeom prst="straightConnector1">
            <a:avLst/>
          </a:prstGeom>
          <a:ln w="12600">
            <a:solidFill>
              <a:srgbClr val="000000"/>
            </a:solidFill>
            <a:miter/>
            <a:tailEnd len="med" type="arrow" w="med"/>
          </a:ln>
        </p:spPr>
      </p:cxnSp>
      <p:sp>
        <p:nvSpPr>
          <p:cNvPr id="138" name="TextBox 29"/>
          <p:cNvSpPr/>
          <p:nvPr/>
        </p:nvSpPr>
        <p:spPr>
          <a:xfrm>
            <a:off x="2249280" y="5867280"/>
            <a:ext cx="42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lock means 3+2 = 4!</a:t>
            </a:r>
            <a:endParaRPr b="0" lang="en-US" sz="2400" spc="-1" strike="noStrike">
              <a:solidFill>
                <a:srgbClr val="000000"/>
              </a:solidFill>
              <a:latin typeface="Arial"/>
            </a:endParaRPr>
          </a:p>
        </p:txBody>
      </p:sp>
      <p:cxnSp>
        <p:nvCxnSpPr>
          <p:cNvPr id="139" name="Straight Arrow Connector 31"/>
          <p:cNvCxnSpPr/>
          <p:nvPr/>
        </p:nvCxnSpPr>
        <p:spPr>
          <a:xfrm>
            <a:off x="609120" y="4700520"/>
            <a:ext cx="1080" cy="1015200"/>
          </a:xfrm>
          <a:prstGeom prst="straightConnector1">
            <a:avLst/>
          </a:prstGeom>
          <a:ln w="12600">
            <a:solidFill>
              <a:srgbClr val="000000"/>
            </a:solidFill>
            <a:miter/>
            <a:tailEnd len="med" type="arrow" w="med"/>
          </a:ln>
        </p:spPr>
      </p:cxnSp>
      <p:sp>
        <p:nvSpPr>
          <p:cNvPr id="140" name="TextBox 32"/>
          <p:cNvSpPr/>
          <p:nvPr/>
        </p:nvSpPr>
        <p:spPr>
          <a:xfrm rot="16200000">
            <a:off x="140040" y="50234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41" name="Straight Connector 34"/>
          <p:cNvSpPr/>
          <p:nvPr/>
        </p:nvSpPr>
        <p:spPr>
          <a:xfrm>
            <a:off x="1852560" y="1828800"/>
            <a:ext cx="0" cy="3232080"/>
          </a:xfrm>
          <a:prstGeom prst="line">
            <a:avLst/>
          </a:prstGeom>
          <a:ln w="648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35"/>
          <p:cNvSpPr/>
          <p:nvPr/>
        </p:nvSpPr>
        <p:spPr>
          <a:xfrm>
            <a:off x="6307200" y="1835280"/>
            <a:ext cx="0" cy="3232080"/>
          </a:xfrm>
          <a:prstGeom prst="line">
            <a:avLst/>
          </a:prstGeom>
          <a:ln w="648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CTOU</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e programs must:</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if a request should be granted, and</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k, act on that reque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not be possible for untrusted user to change anything relevant between #1 and #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can, termed “time of check - time of use” (TOCTOU) race condition</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best to just try to perform action (if atomic), and then look at error condition</a:t>
            </a:r>
            <a:endParaRPr b="0" lang="en-US" sz="28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9E92-D339-4E01-AEF4-1725F0D3C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actions in filesystem</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filesystem shared, can cause problem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access(2)” to see if can do someth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haps things will chang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st try to open file &amp; check for error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creating a file, use open O_CREAT | O_EXC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11 specification adds new fopen “x” exclusive mod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s fopen fails if the file already exists or cannot be creat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wise, the file is created with exclusive (also known as non-shared) acces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other languages build on C’s “fope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 this addition simplifies exclusive access</a:t>
            </a:r>
            <a:endParaRPr b="0" lang="en-US" sz="20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1ADC-D0F1-4874-8952-72FB28E72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mp &amp; /var/tmp directories</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ically shared among proces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d for “temporary” files and for sharing data between process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ery careful creating files he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ny shared directory, repeatedl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random'' filena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 it using O_CREAT | O_EXCL and very narrow permissions (atomically creates the file, else fai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p repeating when the open succeed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wise, if attacker can create that file first, attacker owns &amp; controls it</a:t>
            </a:r>
            <a:endParaRPr b="0" lang="en-US" sz="30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669F-5FD6-46E0-8584-5E39A83459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system: Insecure &amp; secure</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themselves, many library implementations for creating temporary files aren’t secure</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mpfile(3), mktemp(3), tmpnam(3)</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ell convention “$$” isn’t secure – predictable filenam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ead, wrap in larger (securing) routine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set creation file permissions to limit them</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name tempnam(3), try open O_CREAT | O_EXCL</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at previous step until succes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ktemp(1) is okay… unless temp clean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mated “cleanup” can enable a race condition</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ly created, temp cleaner erases, attacker creates</a:t>
            </a:r>
            <a:endParaRPr b="0" lang="en-US" sz="22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4B6B-0943-40A3-9B98-6E07E2FB22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amp; hard link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x-like systems allow “lin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bolic lin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es the name of another fi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attempt to open this file redirected by nam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d lin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another name for </a:t>
            </a:r>
            <a:r>
              <a:rPr b="0" i="1" lang="en-US" sz="2400" spc="-1" strike="noStrike">
                <a:solidFill>
                  <a:srgbClr val="000000"/>
                </a:solidFill>
                <a:latin typeface="Calibri"/>
              </a:rPr>
              <a:t>same</a:t>
            </a:r>
            <a:r>
              <a:rPr b="0" lang="en-US" sz="2400" spc="-1" strike="noStrike">
                <a:solidFill>
                  <a:srgbClr val="000000"/>
                </a:solidFill>
                <a:latin typeface="Calibri"/>
              </a:rPr>
              <a:t> fi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counts how many links to file exis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ers may create links to existing fi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ck privileged program into revealing/changing it</a:t>
            </a:r>
            <a:endParaRPr b="0" lang="en-US" sz="2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BCBA-84C8-4B81-84C4-76E2A03211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1)</a:t>
            </a:r>
            <a:endParaRPr b="0" lang="en-US" sz="4400" spc="-1" strike="noStrike">
              <a:solidFill>
                <a:srgbClr val="000000"/>
              </a:solidFill>
              <a:latin typeface="Calibri"/>
            </a:endParaRPr>
          </a:p>
        </p:txBody>
      </p:sp>
      <p:sp>
        <p:nvSpPr>
          <p:cNvPr id="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st privileg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user and program should operate using fewest privileges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he damage from an accident, error, or attac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number of potential interactions among privileged program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intentional, unwanted, or improper uses of privilege less likely</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 to the internals of a program: only smallest portion of program which needs those privileges should have the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onomy of mechanism/Simplic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system's design should be simple and small as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echniques such as line-by-line inspection of software and physical examination of hardware that implements protection mechanisms are necessary. For such techniques to be successful, a small and simple design is essenti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ka “KISS” principle (``keep it simple, stupid'')</a:t>
            </a:r>
            <a:endParaRPr b="0" lang="en-US" sz="20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AF67-71D7-4A99-8EFB-B49C5D74FD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ing</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ten program must have exclusive rights (“lock”)</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 lock problems:</a:t>
            </a:r>
            <a:endParaRPr b="0" lang="en-US" sz="30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adlocks (“deadly embraces”)</a:t>
            </a:r>
            <a:endParaRPr b="0" lang="en-US" sz="2600" spc="-1" strike="noStrike">
              <a:solidFill>
                <a:srgbClr val="000000"/>
              </a:solidFill>
              <a:latin typeface="Calibri"/>
            </a:endParaRPr>
          </a:p>
          <a:p>
            <a:pPr lvl="2" marL="1108440" indent="-2214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 1 locks A and waits for B; process 2 locks B and waits for A</a:t>
            </a:r>
            <a:endParaRPr b="0" lang="en-US" sz="22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velocks</a:t>
            </a:r>
            <a:endParaRPr b="0" lang="en-US" sz="26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easing “stuck” locks if program doesn’t clean up</a:t>
            </a:r>
            <a:endParaRPr b="0" lang="en-US" sz="26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deadlocks/livelocks can be prevented simply:</a:t>
            </a:r>
            <a:endParaRPr b="0" lang="en-US" sz="30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ll processes create locks in the same order</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21FC-3D95-435F-9E83-D5432CC901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s as lock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lock on Unix-like syste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file to assert a lo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var/run/NAME.p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ck stuck, can easily see (ls) &amp; fix (r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 fine </a:t>
            </a:r>
            <a:r>
              <a:rPr b="0" i="1" lang="en-US" sz="2800" spc="-1" strike="noStrike">
                <a:solidFill>
                  <a:srgbClr val="000000"/>
                </a:solidFill>
                <a:latin typeface="Calibri"/>
              </a:rPr>
              <a:t>if</a:t>
            </a:r>
            <a:r>
              <a:rPr b="0" lang="en-US" sz="2800" spc="-1" strike="noStrike">
                <a:solidFill>
                  <a:srgbClr val="000000"/>
                </a:solidFill>
                <a:latin typeface="Calibri"/>
              </a:rPr>
              <a:t> O_CREAT|O_EXCL fi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ke sure that file permissions don’t let attacker i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reads, use threading systems’ locks</a:t>
            </a:r>
            <a:endParaRPr b="0" lang="en-US" sz="32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FF7D-651F-43F6-8CAD-830C2920FC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 sharing</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sharing resour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haring means no race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haring means attack on one might not affect the 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vert channels” are surreptitious ways to send data across data bounda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 some sort of sharing</a:t>
            </a:r>
            <a:endParaRPr b="0" lang="en-US" sz="28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0AC5-6CBC-47F8-B7E6-F55F76734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st only trustworthy channel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P address typically forge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P port under attacker control (usuall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erse DNS entry (“given this IP address, what is the name?”) usually under attacker contr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s easily forgeable (unless digitally signe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ailing back &amp; forth, with cryptographically random entries, may be okay for low-value info, but it’s not hard to defea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r (including web server) must assume that client (or middleman) is not trustworthy (client can do anyth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ent controls HTML “hidden fields”, HTTP_REFERER, &amp; cook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annot be trusted unless special precautions are taken (e.g., digitally signed, or encrypted using server-only 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ly better off keeping data you care about at the server end in a client/server model</a:t>
            </a:r>
            <a:endParaRPr b="0" lang="en-US" sz="20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EBCA-CBFB-49F1-BD4C-BF5DEB0103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internal</a:t>
            </a:r>
            <a:br>
              <a:rPr sz="4400"/>
            </a:br>
            <a:r>
              <a:rPr b="0" lang="en-US" sz="4400" spc="-1" strike="noStrike">
                <a:solidFill>
                  <a:srgbClr val="000000"/>
                </a:solidFill>
                <a:latin typeface="Calibri"/>
              </a:rPr>
              <a:t>consistency-checking cod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that key internal calls and basic state assumptions are val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key invariants, and actually check th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hat they stay running in the deployed system</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F91C-0D49-43DA-865D-D8F015A1C0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limit resou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d/limit excessive loa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setting limit values (e.g., setrlimit(2) to limit resource 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don’t record debug info like “core” files in deployed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ontain sensitive data</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A5DD-B4A5-4C74-8D7A-B9DC1DCE05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e install/configuration</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default passwords” – force their sett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executables can’t be changed during normal oper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 executables (e.g., web apps) so they are owned by root/special install user, &amp; not writable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most programs run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 if that process is broken into, attacker can’t easily subvert executable – no permis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means installation/update requires special permission, often true anywa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mple files for admins should be secure</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7663-0435-4794-9A80-5206BDB2C5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e install/configuration (2)</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configuration data is from secured loc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c? $HOME? Environment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guration information should be in directories that can’t be easily accessed (at least write, maybe read).  Often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default deny”</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7853-4F66-4774-94EB-BC65B2C58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report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 error information sent back to us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may help attack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o</a:t>
            </a:r>
            <a:r>
              <a:rPr b="0" lang="en-US" sz="2800" spc="-1" strike="noStrike">
                <a:solidFill>
                  <a:srgbClr val="000000"/>
                </a:solidFill>
                <a:latin typeface="Calibri"/>
              </a:rPr>
              <a:t> log problems, in ways not available to potential adversar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login fail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tell them “authorization failed” – not “no such user” or “password incorrect” or (worse) “need longer password”</a:t>
            </a:r>
            <a:endParaRPr b="0" lang="en-US" sz="28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4A4C-C891-4AF3-A44B-70EFCCED37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se-in-depth</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y to make attacker break </a:t>
            </a:r>
            <a:r>
              <a:rPr b="0" i="1" lang="en-US" sz="3200" spc="-1" strike="noStrike">
                <a:solidFill>
                  <a:srgbClr val="000000"/>
                </a:solidFill>
                <a:latin typeface="Calibri"/>
              </a:rPr>
              <a:t>multiple</a:t>
            </a:r>
            <a:r>
              <a:rPr b="0" lang="en-US" sz="3200" spc="-1" strike="noStrike">
                <a:solidFill>
                  <a:srgbClr val="000000"/>
                </a:solidFill>
                <a:latin typeface="Calibri"/>
              </a:rPr>
              <a:t> countermeasures before attack succeeds, e.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ffer overflow countermea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privileg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guarantee against attack, but can hel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breaking all is necessary and each measure adds significant effort</a:t>
            </a:r>
            <a:endParaRPr b="0" lang="en-US" sz="2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D1C1-06C3-4DCD-8A8D-89E61C92A5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2)</a:t>
            </a:r>
            <a:endParaRPr b="0" lang="en-US" sz="4400" spc="-1" strike="noStrike">
              <a:solidFill>
                <a:srgbClr val="000000"/>
              </a:solidFill>
              <a:latin typeface="Calibri"/>
            </a:endParaRPr>
          </a:p>
        </p:txBody>
      </p:sp>
      <p:sp>
        <p:nvSpPr>
          <p:cNvPr id="57"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n desig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tection mechanism must not depend on attacker ignor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the mechanism should be public</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 on secrecy of relatively few (and easily changeable) items like passwords or private keys</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pen design makes extensive public scrutiny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s it possible for users to convince themselves system is adequa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alistic to maintain secrecy for distributed system</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mpilers/subverted hardware quickly expose implementation “secre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if you pretend that source code is necessary to find exploits (it isn't), source code has often been stolen and redistributed</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one of the oldest and strongly supported principles, based on many years in cryptography</a:t>
            </a:r>
            <a:endParaRPr b="0" lang="en-US" sz="1800" spc="-1" strike="noStrike">
              <a:solidFill>
                <a:srgbClr val="000000"/>
              </a:solidFill>
              <a:latin typeface="Calibri"/>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rckhoffs's Law: “A cryptosystem should be designed to be secure if everything is known about it except the key information”</a:t>
            </a:r>
            <a:endParaRPr b="0" lang="en-US" sz="1800" spc="-1" strike="noStrike">
              <a:solidFill>
                <a:srgbClr val="000000"/>
              </a:solidFill>
              <a:latin typeface="Calibri"/>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ude Shannon (inventor of information theory) restated Kerckhoff's Law as: “[Assume] the enemy knows the system”</a:t>
            </a:r>
            <a:endParaRPr b="0" lang="en-US" sz="18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9163-B6B3-4B9A-A579-C0B45D037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is best – but not always possible</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ng break-in is be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ense-in-depth: Attacker must break multiple level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can’t always succee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istent attacker will break through lay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ender has to “defend everywhere” while attacker may only require one mistake/subvers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support “detect, contain, respon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ct: Logging / log analysis, tripwires,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ain: Limit privileges, sandboxes,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onse: Record info as justifiable evidence</a:t>
            </a:r>
            <a:endParaRPr b="0" lang="en-US" sz="26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03F5-6BFE-4A61-A3EB-C07F73A075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k (Threat) modeling</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have initial design, think like an attacker </a:t>
            </a:r>
            <a:r>
              <a:rPr b="0" i="1" lang="en-US" sz="2700" spc="-1" strike="noStrike">
                <a:solidFill>
                  <a:srgbClr val="000000"/>
                </a:solidFill>
                <a:latin typeface="Calibri"/>
              </a:rPr>
              <a:t>before</a:t>
            </a:r>
            <a:r>
              <a:rPr b="0" lang="en-US" sz="2700" spc="-1" strike="noStrike">
                <a:solidFill>
                  <a:srgbClr val="000000"/>
                </a:solidFill>
                <a:latin typeface="Calibri"/>
              </a:rPr>
              <a:t> implementing it (cheap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metimes called “threat modeling” (some object to term as misleadin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ying approaches, often includ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security) requir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rchitecture/design model (need not be detail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to identify attacks/security threa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risk level, select countermeasur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ing design changes, additional components, et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 updating</a:t>
            </a:r>
            <a:endParaRPr b="0" lang="en-US" sz="24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97DD-84E5-4F20-92E9-D560BF16C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approach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with an attack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aluates their goals &amp; how they might achieve them (e.g., via entry poi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CERT attack modeling approac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sign-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with the design of the system: steps through system model, looking for types of attacks against each el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threat modeling in Microsoft’s Security Development Lifecycl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t-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from key assets entrusted to a system</a:t>
            </a:r>
            <a:endParaRPr b="0" lang="en-US" sz="24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5CE2-8026-4EFA-B558-E78569AACD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STRIDE Approach</a:t>
            </a:r>
            <a:endParaRPr b="0" lang="en-US" sz="4400" spc="-1" strike="noStrike">
              <a:solidFill>
                <a:srgbClr val="000000"/>
              </a:solidFill>
              <a:latin typeface="Calibri"/>
            </a:endParaRPr>
          </a:p>
        </p:txBody>
      </p:sp>
      <p:sp>
        <p:nvSpPr>
          <p:cNvPr id="198" name=""/>
          <p:cNvSpPr txBox="1"/>
          <p:nvPr/>
        </p:nvSpPr>
        <p:spPr>
          <a:xfrm>
            <a:off x="457200" y="1599840"/>
            <a:ext cx="8229600" cy="1523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compose system into relevant (design) componen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s simple data flow diagrams, identify trust boundar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alyze each component for susceptibility to threa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tigate the threats</a:t>
            </a:r>
            <a:endParaRPr b="0" lang="en-US" sz="25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08F5-CCAB-4876-BDA2-D2D504A66B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TextBox 4"/>
          <p:cNvSpPr/>
          <p:nvPr/>
        </p:nvSpPr>
        <p:spPr>
          <a:xfrm>
            <a:off x="1634400" y="6324480"/>
            <a:ext cx="608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sdn.microsoft.com/en-us/magazine/cc163519.aspx</a:t>
            </a:r>
            <a:endParaRPr b="0" lang="en-US" sz="1800" spc="-1" strike="noStrike">
              <a:solidFill>
                <a:srgbClr val="000000"/>
              </a:solidFill>
              <a:latin typeface="Arial"/>
            </a:endParaRPr>
          </a:p>
        </p:txBody>
      </p:sp>
      <p:graphicFrame>
        <p:nvGraphicFramePr>
          <p:cNvPr id="201" name=""/>
          <p:cNvGraphicFramePr/>
          <p:nvPr/>
        </p:nvGraphicFramePr>
        <p:xfrm>
          <a:off x="1752480" y="3352680"/>
          <a:ext cx="5499360" cy="2773440"/>
        </p:xfrm>
        <a:graphic>
          <a:graphicData uri="http://schemas.openxmlformats.org/drawingml/2006/table">
            <a:tbl>
              <a:tblPr/>
              <a:tblGrid>
                <a:gridCol w="2832120"/>
                <a:gridCol w="2667240"/>
              </a:tblGrid>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STRIDE” Thre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curity Proper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ofing</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entic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mpering</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udi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repudi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disclosur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idential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ial of servic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il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vation of privileg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iz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202" name="Rectangle 2"/>
          <p:cNvSpPr/>
          <p:nvPr/>
        </p:nvSpPr>
        <p:spPr>
          <a:xfrm>
            <a:off x="457200" y="2765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 Attack Model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simple design overview</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ttack trees” – top is attacker’s objective, decompose down into conditions that achieve that (with AND or 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ise methods to counter attack (build on attack patter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Buffer Overflow Attack Patter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Exploit buffer overflow vulnerability to perform malicious function on target syst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ondition: Attacker can execute certain programs on target syst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a:t>
            </a:r>
            <a:endParaRPr b="0" lang="en-US" sz="18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ND 1. Identify executable program on target system susceptible to buffer overflow vulnerability</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Identify code that will perform malicious function when it executes with program’s privilege</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 Construct input value that will force code to be in program’s address space</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 Execute program in a way that makes it jump to address at which code reside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condition: Target system performs malicious function</a:t>
            </a:r>
            <a:endParaRPr b="0" lang="en-US" sz="18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38A2-5E36-489F-966E-B2DEA64F33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TextBox 4"/>
          <p:cNvSpPr/>
          <p:nvPr/>
        </p:nvSpPr>
        <p:spPr>
          <a:xfrm>
            <a:off x="3223080" y="5983200"/>
            <a:ext cx="53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cert.org/archive/pdf/01tn001.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EC</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EC = Common Attack Pattern Enumeration and Classific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 categories (per CAPEC-1000: Mechanism of Attack)</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a Leakage Attacks (e.g., Probing an Application Through Targeting its Error Reporting)</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le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jection (e.g., SQL injection, command injec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poofing</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ime and State Attack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buse of Functionalit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babilistic Techniqu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loitation of Authentica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loitation of Privilege/Trus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a Structure Attack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ource Manipula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hysical Security Attack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 patter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etwork Reconnaissan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cial Engineering Attack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pply Chain Attacks</a:t>
            </a:r>
            <a:endParaRPr b="0" lang="en-US" sz="15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61BD-116A-4AC3-AE98-4E0299627D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Box 4"/>
          <p:cNvSpPr/>
          <p:nvPr/>
        </p:nvSpPr>
        <p:spPr>
          <a:xfrm>
            <a:off x="5264640" y="6338880"/>
            <a:ext cx="22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capec.mitre.org/</a:t>
            </a:r>
            <a:endParaRPr b="0" lang="en-US" sz="1200" spc="-1" strike="noStrike">
              <a:solidFill>
                <a:srgbClr val="000000"/>
              </a:solidFill>
              <a:latin typeface="Arial"/>
            </a:endParaRPr>
          </a:p>
        </p:txBody>
      </p:sp>
      <p:sp>
        <p:nvSpPr>
          <p:cNvPr id="211" name="TextBox 5"/>
          <p:cNvSpPr/>
          <p:nvPr/>
        </p:nvSpPr>
        <p:spPr>
          <a:xfrm>
            <a:off x="6109560" y="4191120"/>
            <a:ext cx="2477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EC can help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nk like an attac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you can part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 w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ill try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various key design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Saltzer and Schroed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esign program to counter attack, e.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privile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 TOCTOU issu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tack/threat modeling to look for potentially-successful attack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the attacker tries them</a:t>
            </a:r>
            <a:endParaRPr b="0" lang="en-US" sz="28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FCD9-FB8A-4432-8E24-52C8AC70DD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333B-5780-4EB8-8F5D-DEB813700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3)</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lete mediation (“non-bypassabl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y access attempt must be checked; position the mechanism so it cannot be subverted. For example, in a client-server model, generally the server must do all access checking because users can build or modify their own clien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ail-safe defaults (e.g., permission-based approac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efault should be denial of service, and the protection scheme should then identify conditions under which access is permit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paration of privile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lly, access to objects should depend on more than one condition, so that defeating one protection system won't enable complete access</a:t>
            </a:r>
            <a:endParaRPr b="0" lang="en-US" sz="22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558C-AD4C-484A-B0E6-1C16E5015B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4)</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st common mechanism</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amount and use of shared mechanisms (e.g. use of the /tmp or /var/tmp directori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objects provide potentially dangerous channels for information flow and unintended interaction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sychological acceptability / Easy to us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uman interface must be designed for ease of use so users will routinely and automatically use the protection mechanisms correctl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takes will be reduced if the security mechanisms closely match the user's mental image of his or her protection goals</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254F-7824-40DE-9695-15CA66C478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secure software is </a:t>
            </a:r>
            <a:r>
              <a:rPr b="0" i="1" lang="en-US" sz="4400" spc="-1" strike="noStrike">
                <a:solidFill>
                  <a:srgbClr val="000000"/>
                </a:solidFill>
                <a:latin typeface="Calibri"/>
              </a:rPr>
              <a:t>not</a:t>
            </a:r>
            <a:r>
              <a:rPr b="0" lang="en-US" sz="4400" spc="-1" strike="noStrike">
                <a:solidFill>
                  <a:srgbClr val="000000"/>
                </a:solidFill>
                <a:latin typeface="Calibri"/>
              </a:rPr>
              <a:t> new &amp; unknow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zer &amp; Schroeder principles, &amp; many specifics, publicly known since at least 197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is that most software </a:t>
            </a:r>
            <a:r>
              <a:rPr b="0" i="1" lang="en-US" sz="3200" spc="-1" strike="noStrike">
                <a:solidFill>
                  <a:srgbClr val="000000"/>
                </a:solidFill>
                <a:latin typeface="Calibri"/>
              </a:rPr>
              <a:t>developers</a:t>
            </a:r>
            <a:r>
              <a:rPr b="0" lang="en-US" sz="3200" spc="-1" strike="noStrike">
                <a:solidFill>
                  <a:srgbClr val="000000"/>
                </a:solidFill>
                <a:latin typeface="Calibri"/>
              </a:rPr>
              <a:t> do not know how to do 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of course, know this</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4823-0879-4D78-B904-9A958BF02C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rincipl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sign must also consider other requirements &amp; specific circumst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details apply to all syste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apps ≠ Local apps ≠ GUI ≠ setui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better to know the larger set of issu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er specific design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just add details on S&amp;S principles</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A4F4-DA72-44CE-9EB7-F8EF92A902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ng the interfa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faces should b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al (simple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rrow (provide only the functions need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n-bypass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ust should be minimiz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limiting the data the user can s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ve already discussed filtering input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web browser/client, security tests must be in server not brows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owser tests bypassable; we’ll discuss more later</a:t>
            </a:r>
            <a:endParaRPr b="0" lang="en-US" sz="26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A68D-FE83-492F-B6F7-D8C145B890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Wheeler, David A</cp:lastModifiedBy>
  <dcterms:modified xsi:type="dcterms:W3CDTF">2015-04-01T01:00:16Z</dcterms:modified>
  <cp:revision>380</cp:revision>
  <dc:subject>Secure Software Design &amp; Programming - Input Validation</dc:subject>
  <dc:title>SWE 781 / ISA 681 Secure Software Design &amp; Programming</dc:title>
</cp:coreProperties>
</file>